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400-8795-4043-B034-31BA1DAD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D44-E99F-4706-B4D6-56CCB06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6C9-1020-4A6D-9A45-79D34878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05B-AFE6-4D53-B147-9C1FEAE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08B-F505-4817-80C9-C432413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371-6348-486A-9A7C-0D803F5A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277-37B7-430D-9F9A-793A2CF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EEA-941C-406F-A89F-3158A9B4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9C0-38A7-4E51-8AF7-BB02A322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A97-607D-4ED3-A457-858AD450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46B-6B32-4A16-ACB8-526DDFC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F60-81E6-42D6-899A-708FB2E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4AF0-E5D7-4030-890E-257EE35C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ologia.uniba.it/rcm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27200" y="3429000"/>
            <a:ext cx="4078440" cy="305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9903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1416c8"/>
                </a:solidFill>
                <a:latin typeface="Times New Roman"/>
              </a:rPr>
              <a:t>BIOINFORMATI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1: solo sperimentale (1998-9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08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viduazione di BAC e PAC specifici per i geni BCR e AB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920" y="2590920"/>
            <a:ext cx="89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gettare le sonde, a partire dalla sequenza dei geni di interesse (progettare i primer e amplificare la son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7480" y="3781440"/>
            <a:ext cx="66294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1: solo sperimentale (1998-9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920" y="1447920"/>
            <a:ext cx="89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re lo screening delle librerie di BAC e PAC con queste s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360" y="2286000"/>
            <a:ext cx="17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4 PC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2286000"/>
            <a:ext cx="3364200" cy="3508200"/>
            <a:chOff x="1676520" y="2286000"/>
            <a:chExt cx="3364200" cy="3508200"/>
          </a:xfrm>
        </p:grpSpPr>
        <p:sp>
          <p:nvSpPr>
            <p:cNvPr id="171" name=""/>
            <p:cNvSpPr/>
            <p:nvPr/>
          </p:nvSpPr>
          <p:spPr>
            <a:xfrm>
              <a:off x="3025080" y="22860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ondari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16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676520" y="2971800"/>
              <a:ext cx="2705040" cy="2822400"/>
              <a:chOff x="1676520" y="2971800"/>
              <a:chExt cx="2705040" cy="28224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2400480" y="2971800"/>
                <a:ext cx="1981080" cy="2822400"/>
                <a:chOff x="2400480" y="2971800"/>
                <a:chExt cx="1981080" cy="28224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400480" y="2971800"/>
                  <a:ext cx="1981080" cy="2822400"/>
                  <a:chOff x="2400480" y="2971800"/>
                  <a:chExt cx="1981080" cy="28224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400480" y="38098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3314880" y="2971800"/>
                    <a:ext cx="1066680" cy="2822400"/>
                    <a:chOff x="3314880" y="2971800"/>
                    <a:chExt cx="1066680" cy="282240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314880" y="3124080"/>
                      <a:ext cx="0" cy="243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314880" y="31240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314880" y="32767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14880" y="37339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148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314880" y="35812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314880" y="3886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3314880" y="40384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314880" y="41911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314880" y="43434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3314880" y="44956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3314880" y="46483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314880" y="4800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314880" y="49528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314880" y="51055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3314880" y="52578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314880" y="54100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3314880" y="55627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52960" y="5029200"/>
                      <a:ext cx="228600" cy="76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3772800" y="2971800"/>
                      <a:ext cx="372600" cy="268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654360" y="5337000"/>
                      <a:ext cx="18432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8" name=""/>
                <p:cNvSpPr/>
                <p:nvPr/>
              </p:nvSpPr>
              <p:spPr>
                <a:xfrm>
                  <a:off x="4152960" y="4572000"/>
                  <a:ext cx="228600" cy="76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 flipH="1">
                <a:off x="1676520" y="38098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841040" y="3809880"/>
              <a:ext cx="13845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piast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lla libreria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920" y="3048120"/>
            <a:ext cx="1592280" cy="3748680"/>
            <a:chOff x="7920" y="3048120"/>
            <a:chExt cx="1592280" cy="3748680"/>
          </a:xfrm>
        </p:grpSpPr>
        <p:grpSp>
          <p:nvGrpSpPr>
            <p:cNvPr id="202" name=""/>
            <p:cNvGrpSpPr/>
            <p:nvPr/>
          </p:nvGrpSpPr>
          <p:grpSpPr>
            <a:xfrm>
              <a:off x="986040" y="3048120"/>
              <a:ext cx="614160" cy="3748680"/>
              <a:chOff x="986040" y="3048120"/>
              <a:chExt cx="614160" cy="3748680"/>
            </a:xfrm>
          </p:grpSpPr>
          <p:sp>
            <p:nvSpPr>
              <p:cNvPr id="203" name=""/>
              <p:cNvSpPr/>
              <p:nvPr/>
            </p:nvSpPr>
            <p:spPr>
              <a:xfrm>
                <a:off x="986040" y="3048120"/>
                <a:ext cx="307080" cy="374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71600" y="374652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71600" y="4191120"/>
                <a:ext cx="228600" cy="759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71600" y="58672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20" y="4724280"/>
              <a:ext cx="9763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95680" y="2286000"/>
            <a:ext cx="2977920" cy="3916440"/>
            <a:chOff x="4495680" y="2286000"/>
            <a:chExt cx="2977920" cy="3916440"/>
          </a:xfrm>
        </p:grpSpPr>
        <p:sp>
          <p:nvSpPr>
            <p:cNvPr id="209" name=""/>
            <p:cNvSpPr/>
            <p:nvPr/>
          </p:nvSpPr>
          <p:spPr>
            <a:xfrm>
              <a:off x="5715360" y="2286000"/>
              <a:ext cx="175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ziari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20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910040" y="2971800"/>
              <a:ext cx="2057400" cy="3139560"/>
              <a:chOff x="4910040" y="2971800"/>
              <a:chExt cx="2057400" cy="313956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0040" y="46483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7080" y="3124080"/>
                <a:ext cx="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7708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7708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77080" y="3886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77080" y="358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7708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7708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7708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7708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77080" y="4495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77080" y="4648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77080" y="4800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7708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77080" y="510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7708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77080" y="5410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77080" y="5562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77080" y="571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38840" y="51814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35360" y="2971800"/>
                <a:ext cx="308880" cy="31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16560" y="54896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770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77080" y="5867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77080" y="601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38840" y="38098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871880" y="4648320"/>
              <a:ext cx="105408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 righe e 8 colon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 spot sulla piastra 8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4648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0280" y="2286000"/>
            <a:ext cx="2035800" cy="2910960"/>
            <a:chOff x="7010280" y="2286000"/>
            <a:chExt cx="2035800" cy="2910960"/>
          </a:xfrm>
        </p:grpSpPr>
        <p:sp>
          <p:nvSpPr>
            <p:cNvPr id="240" name=""/>
            <p:cNvSpPr/>
            <p:nvPr/>
          </p:nvSpPr>
          <p:spPr>
            <a:xfrm>
              <a:off x="7632720" y="2286000"/>
              <a:ext cx="141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l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4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96320" y="37940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96320" y="39466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6320" y="40989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08080" y="3489480"/>
              <a:ext cx="511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96320" y="36417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58080" y="35654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96320" y="3641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81920" y="388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8880" y="3886200"/>
              <a:ext cx="64152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 clo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llo sp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010280" y="3886200"/>
              <a:ext cx="228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417120" y="6400800"/>
            <a:ext cx="57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e: minimo 64 PCR x individuare 1 B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57200" y="609480"/>
            <a:ext cx="8229600" cy="6251760"/>
            <a:chOff x="457200" y="609480"/>
            <a:chExt cx="8229600" cy="6251760"/>
          </a:xfrm>
        </p:grpSpPr>
        <p:sp>
          <p:nvSpPr>
            <p:cNvPr id="253" name=""/>
            <p:cNvSpPr/>
            <p:nvPr/>
          </p:nvSpPr>
          <p:spPr>
            <a:xfrm>
              <a:off x="685800" y="609480"/>
              <a:ext cx="777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1416c8"/>
                  </a:solidFill>
                  <a:latin typeface="Times New Roman"/>
                </a:rPr>
                <a:t>Strategia 1: solo sperimentale (1998-99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137484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3.    verificare la posizione di mappa dei cloni mediante 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760" y="6035760"/>
              <a:ext cx="78418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mpo totale: 1 anno per analizzare 5 geni chimerici differ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uindi circa </a:t>
              </a:r>
              <a:r>
                <a:rPr b="1" lang="it-IT" sz="2400" spc="-1" strike="noStrike">
                  <a:solidFill>
                    <a:srgbClr val="ca0000"/>
                  </a:solidFill>
                  <a:latin typeface="Times New Roman"/>
                </a:rPr>
                <a:t>2 mesi e mezzo per 1 gene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2247840" y="1908000"/>
              <a:ext cx="4648320" cy="411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3080" y="33012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2: bioinformatica e sperimentale (2002-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75248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cquisire informazioni sui geni d’interesse, consultando la casistica riportata al sito ATLA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9999"/>
                </a:solidFill>
                <a:latin typeface="Times New Roman"/>
              </a:rPr>
              <a:t>AT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ultare database bioinformatici (UCSC , NCBI , ENSEMBL ) per la scelta dei cl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UCS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rificare la posizione di mappa dei cloni mediante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ancer Projec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o totale: 1 anno per analizzare 105 geni chimerici dif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circa </a:t>
            </a:r>
            <a:r>
              <a:rPr b="1" lang="it-IT" sz="2400" spc="-1" strike="noStrike">
                <a:solidFill>
                  <a:srgbClr val="ca0000"/>
                </a:solidFill>
                <a:latin typeface="Times New Roman"/>
              </a:rPr>
              <a:t>3 giorni per gen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080" y="1092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viduazione di BAC e PAC specifici per i geni BCR e AB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828800" y="2590920"/>
            <a:ext cx="6945480" cy="2791080"/>
            <a:chOff x="1828800" y="2590920"/>
            <a:chExt cx="6945480" cy="2791080"/>
          </a:xfrm>
        </p:grpSpPr>
        <p:sp>
          <p:nvSpPr>
            <p:cNvPr id="261" name=""/>
            <p:cNvSpPr/>
            <p:nvPr/>
          </p:nvSpPr>
          <p:spPr>
            <a:xfrm>
              <a:off x="6749280" y="259092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6_ATLAS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41720" y="4038480"/>
              <a:ext cx="141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7_UCSC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43520" y="5105520"/>
              <a:ext cx="203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8_CancerProject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8800" y="419112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1800" y="525780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71440" y="1676520"/>
            <a:ext cx="4148280" cy="4495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4124160" cy="4495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99840" y="60948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Diagnosi di colocalizzazione sul der(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4297320"/>
            <a:ext cx="84582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ncettualizzare la vi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in termini biologici, non filosofici)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me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funzione e interazione di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molecole semplici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dalla Fisica chim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estrarre e organizzare l’informazione associa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con queste molecole, applicando tecniche informatiche su larga scala  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(principi di matematica applicata, scienze informatiche e statis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2479680"/>
            <a:ext cx="6934320" cy="16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7"/>
                </a:solidFill>
                <a:latin typeface="Palatino"/>
              </a:rPr>
              <a:t>In breve è un </a:t>
            </a:r>
            <a:r>
              <a:rPr b="1" lang="it-IT" sz="2800" spc="-1" strike="noStrike">
                <a:solidFill>
                  <a:srgbClr val="ca0000"/>
                </a:solidFill>
                <a:latin typeface="Palatino"/>
              </a:rPr>
              <a:t>sistema di </a:t>
            </a:r>
            <a:r>
              <a:rPr b="1" i="1" lang="it-IT" sz="2800" spc="-1" strike="noStrike">
                <a:solidFill>
                  <a:srgbClr val="ca0000"/>
                </a:solidFill>
                <a:latin typeface="Palatino"/>
              </a:rPr>
              <a:t>management</a:t>
            </a:r>
            <a:r>
              <a:rPr b="1" lang="it-IT" sz="2800" spc="-1" strike="noStrike">
                <a:solidFill>
                  <a:srgbClr val="ca0000"/>
                </a:solidFill>
                <a:latin typeface="Palatino"/>
              </a:rPr>
              <a:t> dell’informazione</a:t>
            </a:r>
            <a:r>
              <a:rPr b="1" lang="it-IT" sz="2800" spc="-1" strike="noStrike">
                <a:solidFill>
                  <a:srgbClr val="1416c7"/>
                </a:solidFill>
                <a:latin typeface="Palatino"/>
              </a:rPr>
              <a:t> per la biologia molecolare e le scienze correlate.</a:t>
            </a:r>
            <a:r>
              <a:rPr b="0" lang="it-IT" sz="28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1416c7"/>
                </a:solidFill>
                <a:uFillTx/>
                <a:latin typeface="Palatino"/>
              </a:rPr>
              <a:t>Bio</a:t>
            </a:r>
            <a:r>
              <a:rPr b="1" lang="it-IT" sz="4400" spc="-1" strike="noStrike">
                <a:solidFill>
                  <a:srgbClr val="1416c7"/>
                </a:solidFill>
                <a:latin typeface="Palatino"/>
              </a:rPr>
              <a:t> </a:t>
            </a:r>
            <a:r>
              <a:rPr b="0" lang="it-IT" sz="4400" spc="-1" strike="noStrike">
                <a:solidFill>
                  <a:srgbClr val="1416c7"/>
                </a:solidFill>
                <a:latin typeface="Palatino"/>
              </a:rPr>
              <a:t>+ </a:t>
            </a:r>
            <a:r>
              <a:rPr b="1" lang="it-IT" sz="4400" spc="-1" strike="noStrike" u="sng">
                <a:solidFill>
                  <a:srgbClr val="1416c7"/>
                </a:solidFill>
                <a:uFillTx/>
                <a:latin typeface="Palatino"/>
              </a:rPr>
              <a:t>Informat</a:t>
            </a:r>
            <a:r>
              <a:rPr b="1" lang="it-IT" sz="4400" spc="-1" strike="noStrike">
                <a:solidFill>
                  <a:srgbClr val="1416c7"/>
                </a:solidFill>
                <a:latin typeface="Palatino"/>
              </a:rPr>
              <a:t> </a:t>
            </a:r>
            <a:r>
              <a:rPr b="0" lang="it-IT" sz="4400" spc="-1" strike="noStrike">
                <a:solidFill>
                  <a:srgbClr val="1416c7"/>
                </a:solidFill>
                <a:latin typeface="Palatino"/>
              </a:rPr>
              <a:t>+ ica</a:t>
            </a:r>
            <a:r>
              <a:rPr b="1" lang="it-IT" sz="4400" spc="-1" strike="noStrike">
                <a:solidFill>
                  <a:srgbClr val="1416c7"/>
                </a:solidFill>
                <a:latin typeface="Palatino"/>
              </a:rPr>
              <a:t>:</a:t>
            </a:r>
            <a:r>
              <a:rPr b="0" lang="it-IT" sz="4400" spc="-1" strike="noStrike">
                <a:solidFill>
                  <a:srgbClr val="1416c7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836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Scopi e strumenti della bioinfor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0400" y="495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3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Fornire un’</a:t>
            </a:r>
            <a:r>
              <a:rPr b="1" lang="it-IT" sz="2400" spc="-1" strike="noStrike">
                <a:solidFill>
                  <a:srgbClr val="1416c8"/>
                </a:solidFill>
                <a:latin typeface="Times New Roman"/>
              </a:rPr>
              <a:t>interpretazione biologica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 di “astratte”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elaborazioni matematiche e statis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320" y="3693960"/>
            <a:ext cx="7707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2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Sviluppare strumenti e risorse utili all’</a:t>
            </a:r>
            <a:r>
              <a:rPr b="1" lang="it-IT" sz="2400" spc="-1" strike="noStrike">
                <a:solidFill>
                  <a:srgbClr val="1416c8"/>
                </a:solidFill>
                <a:latin typeface="Times New Roman"/>
              </a:rPr>
              <a:t>analisi de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680" y="182880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1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1416c8"/>
                </a:solidFill>
                <a:latin typeface="Times New Roman"/>
              </a:rPr>
              <a:t>Organizzare i dati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 in modo che ogni ricercatore possa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accedere alle informazioni esistenti, consultare i dati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presenti e immettere i risultati dei propri esperi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91920" y="297180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anche dati e strumenti di consul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5520" y="41911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Algoritmi di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92280" y="579132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iologo   +   Informatico   =   Bioinfor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Ricerca di gene candid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assia Teleangectas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e di 4-cM delimitata dalle STS D11S611 e D11S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atti et al. 1993; Lancet. 342: pg 376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3600" y="3459240"/>
            <a:ext cx="8019000" cy="3035520"/>
            <a:chOff x="453600" y="3459240"/>
            <a:chExt cx="8019000" cy="3035520"/>
          </a:xfrm>
        </p:grpSpPr>
        <p:grpSp>
          <p:nvGrpSpPr>
            <p:cNvPr id="58" name=""/>
            <p:cNvGrpSpPr/>
            <p:nvPr/>
          </p:nvGrpSpPr>
          <p:grpSpPr>
            <a:xfrm>
              <a:off x="453600" y="3459240"/>
              <a:ext cx="4640040" cy="3035520"/>
              <a:chOff x="453600" y="3459240"/>
              <a:chExt cx="4640040" cy="3035520"/>
            </a:xfrm>
          </p:grpSpPr>
          <p:sp>
            <p:nvSpPr>
              <p:cNvPr id="59" name=""/>
              <p:cNvSpPr/>
              <p:nvPr/>
            </p:nvSpPr>
            <p:spPr>
              <a:xfrm>
                <a:off x="453960" y="5076720"/>
                <a:ext cx="382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imes New Roman"/>
                  </a:rPr>
                  <a:t>Nistagmo: Dictionary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3600" y="4243320"/>
                <a:ext cx="464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imes New Roman"/>
                  </a:rPr>
                  <a:t>ATM at www.Ensembl.or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7200" y="5913360"/>
                <a:ext cx="2239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imes New Roman"/>
                  </a:rPr>
                  <a:t>Sito Atassia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760" y="3459240"/>
                <a:ext cx="277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imes New Roman"/>
                  </a:rPr>
                  <a:t>OMIM: 2089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725520" y="358128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1_OMIM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9560" y="4419720"/>
              <a:ext cx="164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2_Ensembl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40280" y="5257800"/>
              <a:ext cx="17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3_Nistagmo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48560" y="612612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Lucida Grande"/>
                </a:rPr>
                <a:t>File: 4_Ataxia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37339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29200" y="45720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54100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920" y="6248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00" y="1371240"/>
            <a:ext cx="811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SINERGIA FRA BIOINFORMATICA E CITOGEN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4495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Identificazione di sonde molecolari</a:t>
            </a:r>
            <a:br>
              <a:rPr sz="3600"/>
            </a:b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per la diagnostica citogenetica dei tum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6094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a7e"/>
                </a:solidFill>
                <a:latin typeface="Times New Roman"/>
              </a:rPr>
              <a:t>Formazione di un GENE CHI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2280" y="1374840"/>
            <a:ext cx="8534520" cy="1447560"/>
            <a:chOff x="152280" y="1374840"/>
            <a:chExt cx="8534520" cy="1447560"/>
          </a:xfrm>
        </p:grpSpPr>
        <p:sp>
          <p:nvSpPr>
            <p:cNvPr id="75" name=""/>
            <p:cNvSpPr/>
            <p:nvPr/>
          </p:nvSpPr>
          <p:spPr>
            <a:xfrm>
              <a:off x="4280040" y="1768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0600" y="1654200"/>
              <a:ext cx="685800" cy="22824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99000" y="175572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1654200"/>
              <a:ext cx="762120" cy="23904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99200" y="175572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2280" y="1374840"/>
              <a:ext cx="4191120" cy="571320"/>
              <a:chOff x="152280" y="1374840"/>
              <a:chExt cx="4191120" cy="571320"/>
            </a:xfrm>
          </p:grpSpPr>
          <p:sp>
            <p:nvSpPr>
              <p:cNvPr id="81" name=""/>
              <p:cNvSpPr/>
              <p:nvPr/>
            </p:nvSpPr>
            <p:spPr>
              <a:xfrm>
                <a:off x="152280" y="157788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18064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587600" y="137484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mo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60720" y="17812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76520" y="1679400"/>
                <a:ext cx="838080" cy="228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38280" y="1679400"/>
                <a:ext cx="609840" cy="228600"/>
              </a:xfrm>
              <a:prstGeom prst="cube">
                <a:avLst>
                  <a:gd name="adj" fmla="val 25000"/>
                </a:avLst>
              </a:prstGeom>
              <a:solidFill>
                <a:srgbClr val="1324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581280" y="1666800"/>
                <a:ext cx="762120" cy="216000"/>
              </a:xfrm>
              <a:prstGeom prst="cube">
                <a:avLst>
                  <a:gd name="adj" fmla="val 25000"/>
                </a:avLst>
              </a:prstGeom>
              <a:solidFill>
                <a:srgbClr val="1324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328000">
                <a:off x="2692080" y="174312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901800" y="2454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92160" y="260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25680" y="2479680"/>
              <a:ext cx="838080" cy="228240"/>
            </a:xfrm>
            <a:prstGeom prst="cube">
              <a:avLst>
                <a:gd name="adj" fmla="val 25000"/>
              </a:avLst>
            </a:prstGeom>
            <a:solidFill>
              <a:srgbClr val="e38d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87800" y="2479680"/>
              <a:ext cx="1143000" cy="22824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000" y="21492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mo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330800" y="2466720"/>
              <a:ext cx="4356000" cy="241200"/>
              <a:chOff x="4330800" y="2466720"/>
              <a:chExt cx="4356000" cy="241200"/>
            </a:xfrm>
          </p:grpSpPr>
          <p:sp>
            <p:nvSpPr>
              <p:cNvPr id="95" name=""/>
              <p:cNvSpPr/>
              <p:nvPr/>
            </p:nvSpPr>
            <p:spPr>
              <a:xfrm>
                <a:off x="4330800" y="26064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76920" y="2479320"/>
                <a:ext cx="761760" cy="2160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38680" y="26064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84800" y="2466720"/>
                <a:ext cx="685800" cy="2286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177800">
                <a:off x="6629040" y="25293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70600" y="26064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75520" y="2479320"/>
                <a:ext cx="685800" cy="2286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61320" y="2619000"/>
                <a:ext cx="8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572000" y="1857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600" y="3000240"/>
            <a:ext cx="9131400" cy="1506240"/>
            <a:chOff x="12600" y="3000240"/>
            <a:chExt cx="9131400" cy="1506240"/>
          </a:xfrm>
        </p:grpSpPr>
        <p:sp>
          <p:nvSpPr>
            <p:cNvPr id="105" name=""/>
            <p:cNvSpPr/>
            <p:nvPr/>
          </p:nvSpPr>
          <p:spPr>
            <a:xfrm>
              <a:off x="4419720" y="300024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600" y="386388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 di fusione A/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62040" y="4181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6640" y="3749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mo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79760" y="415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95560" y="4054320"/>
              <a:ext cx="838080" cy="228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00680" y="4041720"/>
              <a:ext cx="761760" cy="2160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8000" y="4156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4120" y="4029120"/>
              <a:ext cx="761760" cy="2160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4156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42000" y="401652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27800" y="415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2720" y="402912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18520" y="41688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1800" y="3711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120" y="3381480"/>
              <a:ext cx="17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reakpoint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7680" y="4054320"/>
              <a:ext cx="609480" cy="2286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328000">
              <a:off x="3136680" y="41054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177800">
              <a:off x="7086240" y="40791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21240" y="2009880"/>
            <a:ext cx="13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eak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4829040"/>
            <a:ext cx="6477120" cy="559440"/>
            <a:chOff x="228600" y="4829040"/>
            <a:chExt cx="6477120" cy="559440"/>
          </a:xfrm>
        </p:grpSpPr>
        <p:sp>
          <p:nvSpPr>
            <p:cNvPr id="126" name=""/>
            <p:cNvSpPr/>
            <p:nvPr/>
          </p:nvSpPr>
          <p:spPr>
            <a:xfrm>
              <a:off x="2997360" y="4841640"/>
              <a:ext cx="609480" cy="2286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3480" y="4841640"/>
              <a:ext cx="927000" cy="23184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06760" y="4841640"/>
              <a:ext cx="80028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1640" y="5051160"/>
              <a:ext cx="96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’UT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328000">
              <a:off x="3250800" y="49053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30720" y="484164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177800">
              <a:off x="5574960" y="49046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3160" y="484164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482904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scritto di fusione A/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6480" y="5038560"/>
              <a:ext cx="97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’UTR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25960" y="5832360"/>
            <a:ext cx="2590200" cy="304560"/>
            <a:chOff x="3225960" y="5832360"/>
            <a:chExt cx="2590200" cy="304560"/>
          </a:xfrm>
        </p:grpSpPr>
        <p:sp>
          <p:nvSpPr>
            <p:cNvPr id="137" name=""/>
            <p:cNvSpPr/>
            <p:nvPr/>
          </p:nvSpPr>
          <p:spPr>
            <a:xfrm>
              <a:off x="3225960" y="5832360"/>
              <a:ext cx="1294920" cy="30456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4920" y="5832360"/>
              <a:ext cx="1371240" cy="30456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57200" y="58197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ina di fusione A/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6124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omini/motivi funzionali di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44920" y="61246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622"/>
                </a:solidFill>
                <a:latin typeface="Times New Roman"/>
              </a:rPr>
              <a:t>Domini/motivi funzionali di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177800">
            <a:off x="6464160" y="17424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328000">
            <a:off x="3898800" y="254304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16200000">
            <a:off x="2246400" y="646200"/>
            <a:ext cx="5335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ucemia Mieloide Cron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OMIM: 60823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% dei casi formazione di un cromosoma “Philadelphia” (19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36560" y="1828800"/>
            <a:ext cx="8407080" cy="4737240"/>
            <a:chOff x="736560" y="1828800"/>
            <a:chExt cx="8407080" cy="4737240"/>
          </a:xfrm>
        </p:grpSpPr>
        <p:grpSp>
          <p:nvGrpSpPr>
            <p:cNvPr id="147" name=""/>
            <p:cNvGrpSpPr/>
            <p:nvPr/>
          </p:nvGrpSpPr>
          <p:grpSpPr>
            <a:xfrm>
              <a:off x="4647960" y="2506680"/>
              <a:ext cx="4495680" cy="4059360"/>
              <a:chOff x="4647960" y="2506680"/>
              <a:chExt cx="4495680" cy="40593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647960" y="2506680"/>
                <a:ext cx="4495680" cy="4059360"/>
                <a:chOff x="4647960" y="2506680"/>
                <a:chExt cx="4495680" cy="4059360"/>
              </a:xfrm>
            </p:grpSpPr>
            <p:pic>
              <p:nvPicPr>
                <p:cNvPr id="1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47960" y="2506680"/>
                  <a:ext cx="4495680" cy="405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>
                  <a:off x="6476760" y="4127400"/>
                  <a:ext cx="380880" cy="304920"/>
                </a:xfrm>
                <a:prstGeom prst="rightArrow">
                  <a:avLst>
                    <a:gd name="adj1" fmla="val 50000"/>
                    <a:gd name="adj2" fmla="val 31228"/>
                  </a:avLst>
                </a:prstGeom>
                <a:gradFill rotWithShape="0">
                  <a:gsLst>
                    <a:gs pos="0">
                      <a:srgbClr val="ff1119"/>
                    </a:gs>
                    <a:gs pos="100000">
                      <a:srgbClr val="75070b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939920" y="2697120"/>
                  <a:ext cx="525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B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32560" y="317988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BC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6950880" y="270036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/BC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25680" y="315756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/AB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736560" y="1828800"/>
              <a:ext cx="70866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slocazione reciproca fra 22q11.21 e 9q34.1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Prakash and Yunis. 1984; Cancer Genet Cytogenet. 361: pg 361-36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720" y="2952720"/>
            <a:ext cx="3268800" cy="2916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416360" y="716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Grande"/>
              </a:rPr>
              <a:t>File: 5_OMIM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057400"/>
            <a:ext cx="34290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mazione del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 fusione BCR/AB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486240" y="533520"/>
            <a:ext cx="5200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ucemia Mieloide Cronic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t(9/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6108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0:39:05Z</dcterms:created>
  <dc:creator>Mariano Rocchi</dc:creator>
  <dc:description/>
  <dc:language>en-US</dc:language>
  <cp:lastModifiedBy>Mariano Rocchi</cp:lastModifiedBy>
  <dcterms:modified xsi:type="dcterms:W3CDTF">2004-05-22T09:44:13Z</dcterms:modified>
  <cp:revision>121</cp:revision>
  <dc:subject/>
  <dc:title>BIOINFORMATICA</dc:title>
</cp:coreProperties>
</file>